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489-A7A9-416B-9387-9E71D4D2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54A-722F-469B-AB98-9FC0EE3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CC2-2C9A-453C-84A5-0DD61358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220-D128-463F-920D-F88D4459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8A1-EA40-4EAC-A22B-F882BE84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7A6-57EE-4DEB-B6AE-FAA99FB1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6A2-B73D-43C8-8697-EF1E4271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F86-C2A9-4EA9-8423-8AC94AA0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A25-ACB2-4F61-8155-B93635E2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84F-125C-4CA3-987A-6207825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750-3924-42A0-8BAB-C467FAD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A66-2863-4B11-80CB-42C3312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241C-9F6A-4954-8AD3-1AB98509A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ove, on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's get together and feel all righ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ove, on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Give thanks and praise to the Lord and I will feel all right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Give thanks and praise to the Lord and I will feel all right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5:39:36Z</dcterms:created>
  <dc:creator>Peter Rivezzo</dc:creator>
  <dc:description/>
  <dc:language>en-US</dc:language>
  <cp:lastModifiedBy>Peter Rivezzo</cp:lastModifiedBy>
  <dcterms:modified xsi:type="dcterms:W3CDTF">2011-04-24T05:39:40Z</dcterms:modified>
  <cp:revision>1</cp:revision>
  <dc:subject/>
  <dc:title>One Love</dc:title>
</cp:coreProperties>
</file>